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916E-396F-4A94-90CE-28B24FD65FC8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330A-3F18-4A9E-BB95-CD88F5C4EFE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膠水樽回收量增加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，但固體廢物量同時增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不能因推高回收量而不斷用膠水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人的生活習慣：貪方便，不自攜水樽外出，不先清洗膠樽才放入回收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571B-21DE-4E33-B25B-BB93A427A4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活動背後的理念，第一：增加回收量，第二：實施源頭減廢，第三：培養市民回收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活動可增加回收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但成效並不彰顯，因為塑膠廢物量仍然上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政府推行政策的力度不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D1B2-3C38-4F6D-9681-68FAB4B146C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活動可增加回收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教育推廣仍然不足，雖繼續積極培養市民的分類意識，在社會上締造良好的環保風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5D1B-7E61-4936-9039-DD747A95F29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量仍有待改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回收量少，因為環保園位置偏遠，物流成本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由於回收量不達標，園內機器沒有完全被使用，出現浪費的情況，變相是增加了成本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DF5A-C053-4291-A0FB-A5356F9F0F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很多市民仍以為只有膠樽可回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未飲用完的塑膠容器投入回收箱，令回收箱內的塑膠因污染而不能使用，亦</a:t>
            </a: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減低回收品的價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量仍有待改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F72F-8F7F-415A-8DD2-E6F9B6642B3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5C4C-08BC-4688-9902-6F3E82D5357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未飲完的塑膠容器投入回收箱，有機會污染其他原本乾淨的塑膠製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到受污染的塑膠，回收工人需加以清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到未拆招紙的塑膠製品，回收工人需以人手加以清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C99A-EBEC-45DF-BFA2-2CC846693C1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市面上很多物品都是由塑膠製成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手機機殼、電腦外殼，全都是塑膠製品，時常更換會增加不少塑膠廢物的產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AAB8-683C-4147-B834-C2CCBD7FB5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E37F-BE44-4B6A-AE12-FE3C86AF13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香港的廢物量每年持續遞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以都市廢物為例，在環保署成立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8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至今，平均每年都有增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加上期間香港人口激增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0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，本港的都市固體廢物人均棄置量為每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.35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公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F0CF-D50E-440D-BC7D-A41B636B465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A6F7-FCFA-4626-B013-8AD8BE3D687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香港的塑料廢物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09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佔都市固體廢物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；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，則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1%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比重在一年之間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595A-26F4-4E10-B241-0367440D1DB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香港的都市固體廢物回收量，除了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9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99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輕微下降之外，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9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，所回收的都市固體廢物整體上有上升的趨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3D8F-EF73-4F89-B6E3-ECDBFABD80D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9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0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，回收塑膠的情況並沒有顯著增長或減少，直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0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以後，回收數量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5,000,0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公噸急升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5,000,0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公噸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塑膠回收的情況正在不斷改善，但仍有進步的空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7166-525D-490A-BCAE-9605885E73B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B3A-920E-4A3C-AFB2-CBA5E5A4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8836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3C0-E821-4043-8B12-32D3568E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740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E6A-78B8-4C78-8B12-C859A967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31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31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ECC-82D7-4565-A083-EAD27303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F914-756F-4290-BC22-D2C26BF5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BD82-DD25-4AD1-9D65-9842F08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60D9-C630-49FA-8D6D-EF160925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1674-CB67-485D-B365-7AAAD4E4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6944-5E45-427B-AB79-8C710002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772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8F2B-55C2-4805-9546-E8D80C67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E978-D623-4EE1-A088-E339D20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E33-7808-4178-A478-67E20ED2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3740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A42E-0906-403D-9165-EB8DA91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4CC8-F017-4422-84F3-CE1C14A8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388836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0227-ECB2-4E7B-9560-31FCAB54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3740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4728-73F1-4677-8C80-84F36AAE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31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485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31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485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8D02-D342-4143-BC58-DC0DA948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7D1-E51D-466B-B776-E05BCB03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B2C-37D9-4A2F-B6B2-708BD49E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275-724D-4564-BF6D-7E724ACA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DFC-D42C-48AF-B54A-894F9BC6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E09-D0E8-455E-80B0-AF26947A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740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820-8EB2-46D3-A356-23A097FE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687-6456-4D85-B367-57CA92C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85880" cy="6858000"/>
            <a:chOff x="0" y="0"/>
            <a:chExt cx="7858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785880" cy="6858000"/>
              <a:chOff x="0" y="0"/>
              <a:chExt cx="785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74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533520" y="0"/>
                <a:ext cx="252360" cy="6858000"/>
              </a:xfrm>
              <a:prstGeom prst="rect">
                <a:avLst/>
              </a:prstGeom>
              <a:solidFill>
                <a:srgbClr val="085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Rectangle 6"/>
            <p:cNvSpPr/>
            <p:nvPr/>
          </p:nvSpPr>
          <p:spPr>
            <a:xfrm>
              <a:off x="0" y="6324480"/>
              <a:ext cx="762120" cy="25236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33520" y="6324480"/>
              <a:ext cx="252360" cy="252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90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853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555720" y="6244920"/>
            <a:ext cx="260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686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09A5-AA74-4A56-9943-69C64C01DF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379520"/>
            <a:ext cx="9144000" cy="449280"/>
            <a:chOff x="0" y="1379520"/>
            <a:chExt cx="9144000" cy="449280"/>
          </a:xfrm>
        </p:grpSpPr>
        <p:sp>
          <p:nvSpPr>
            <p:cNvPr id="49" name="Rectangle 3"/>
            <p:cNvSpPr/>
            <p:nvPr/>
          </p:nvSpPr>
          <p:spPr>
            <a:xfrm>
              <a:off x="0" y="137952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0" y="1484280"/>
              <a:ext cx="9144000" cy="25236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0" y="175896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6"/>
          <p:cNvGrpSpPr/>
          <p:nvPr/>
        </p:nvGrpSpPr>
        <p:grpSpPr>
          <a:xfrm>
            <a:off x="393840" y="0"/>
            <a:ext cx="392040" cy="6858000"/>
            <a:chOff x="393840" y="0"/>
            <a:chExt cx="392040" cy="6858000"/>
          </a:xfrm>
        </p:grpSpPr>
        <p:sp>
          <p:nvSpPr>
            <p:cNvPr id="53" name="Rectangle 7"/>
            <p:cNvSpPr/>
            <p:nvPr/>
          </p:nvSpPr>
          <p:spPr>
            <a:xfrm>
              <a:off x="533520" y="0"/>
              <a:ext cx="252360" cy="685800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 flipH="1">
              <a:off x="393840" y="0"/>
              <a:ext cx="69840" cy="685800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9"/>
          <p:cNvSpPr/>
          <p:nvPr/>
        </p:nvSpPr>
        <p:spPr>
          <a:xfrm>
            <a:off x="533520" y="1479600"/>
            <a:ext cx="252360" cy="25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90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0EBC-825B-4580-9D7D-0EF930EBD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32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74888"/>
                </a:solidFill>
                <a:latin typeface="新細明體"/>
                <a:ea typeface="新細明體"/>
              </a:rPr>
              <a:t>課節一：塑膠廢物知多少？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1E36-4BD6-4885-93CD-466D924A27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69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小點子</a:t>
            </a:r>
            <a:endParaRPr b="1" lang="en-US" sz="36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9000" y="1483920"/>
            <a:ext cx="7496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可從以下層面作出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人習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政府政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教育推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經濟考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社會文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C229-9700-482C-8DAF-E5C490ADE3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小組討論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4454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人習慣（資料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大量使用塑膠水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未飲用完的塑膠容器投入回收箱，令回收箱內的塑膠因污染而不能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3289320" cy="229428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6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687C-44F8-41E9-B800-685E82EE73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loud Callout 7"/>
          <p:cNvSpPr/>
          <p:nvPr/>
        </p:nvSpPr>
        <p:spPr>
          <a:xfrm>
            <a:off x="611280" y="4365720"/>
            <a:ext cx="4608360" cy="2087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loud Callout 8"/>
          <p:cNvSpPr/>
          <p:nvPr/>
        </p:nvSpPr>
        <p:spPr>
          <a:xfrm>
            <a:off x="5219640" y="3933720"/>
            <a:ext cx="3745080" cy="1800360"/>
          </a:xfrm>
          <a:prstGeom prst="cloudCallout">
            <a:avLst>
              <a:gd name="adj1" fmla="val 31273"/>
              <a:gd name="adj2" fmla="val 5374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1116000" y="4797360"/>
            <a:ext cx="35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這些習慣對塑膠廢物的製造量有何影響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對回收量又有甚麼影響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5580000" y="4365720"/>
            <a:ext cx="28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能歸納出香港人的哪些生活習慣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770520" y="3500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太陽報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504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政府政策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資料一、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聯同地區組織舉辦回收活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膠袋徵費計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推動源頭減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668840" y="4149720"/>
            <a:ext cx="4079880" cy="201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2232000" cy="330372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6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8CC6-514B-403D-BE6A-84746685FC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1332000" y="53341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舉辦這些活動背後的理念是甚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 Callout 9"/>
          <p:cNvSpPr/>
          <p:nvPr/>
        </p:nvSpPr>
        <p:spPr>
          <a:xfrm>
            <a:off x="1332000" y="2781360"/>
            <a:ext cx="3527280" cy="2087640"/>
          </a:xfrm>
          <a:prstGeom prst="cloudCallout">
            <a:avLst>
              <a:gd name="adj1" fmla="val -52180"/>
              <a:gd name="adj2" fmla="val -27162"/>
            </a:avLst>
          </a:prstGeom>
          <a:solidFill>
            <a:srgbClr val="ff00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2050920" y="30830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這些活動對回收有甚麼幫助？成效是否彰顯？為甚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 Callout 7"/>
          <p:cNvSpPr/>
          <p:nvPr/>
        </p:nvSpPr>
        <p:spPr>
          <a:xfrm>
            <a:off x="971640" y="4940280"/>
            <a:ext cx="3456000" cy="1441440"/>
          </a:xfrm>
          <a:prstGeom prst="cloudCallout">
            <a:avLst>
              <a:gd name="adj1" fmla="val 36750"/>
              <a:gd name="adj2" fmla="val 41773"/>
            </a:avLst>
          </a:prstGeom>
          <a:solidFill>
            <a:srgbClr val="ff00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4788000" y="692280"/>
            <a:ext cx="4101840" cy="58068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6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8574-02C7-4A99-A2D8-AB6B90572C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 Callout 7"/>
          <p:cNvSpPr/>
          <p:nvPr/>
        </p:nvSpPr>
        <p:spPr>
          <a:xfrm>
            <a:off x="1332000" y="2060640"/>
            <a:ext cx="2736720" cy="1944720"/>
          </a:xfrm>
          <a:prstGeom prst="cloudCallout">
            <a:avLst>
              <a:gd name="adj1" fmla="val 48870"/>
              <a:gd name="adj2" fmla="val 32504"/>
            </a:avLst>
          </a:pr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1906560" y="2527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對回收量有甚麼影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 Callout 9"/>
          <p:cNvSpPr/>
          <p:nvPr/>
        </p:nvSpPr>
        <p:spPr>
          <a:xfrm>
            <a:off x="1042920" y="4005360"/>
            <a:ext cx="3745080" cy="2376360"/>
          </a:xfrm>
          <a:prstGeom prst="cloudCallout">
            <a:avLst>
              <a:gd name="adj1" fmla="val 50439"/>
              <a:gd name="adj2" fmla="val -58972"/>
            </a:avLst>
          </a:pr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1547640" y="443700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教育推廣足夠嗎？市民的生活習慣有沒有明顯的改善？欠了甚麼動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7194600" y="61657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環保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971640" y="1131840"/>
            <a:ext cx="374472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政府聯同學校舉辦回收教育推廣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00000" y="331560"/>
            <a:ext cx="44640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教育推廣（資料一、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55280" y="189000"/>
            <a:ext cx="5977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經濟考慮（資料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環保園營運成本高達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1020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量少，不達目標的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4132080" cy="302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rcRect l="0" t="0" r="0" b="3058"/>
          <a:stretch/>
        </p:blipFill>
        <p:spPr>
          <a:xfrm>
            <a:off x="5867280" y="549360"/>
            <a:ext cx="2675160" cy="259236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2804-1C0E-4DD0-A758-3ACF647D3F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0"/>
          <p:cNvGrpSpPr/>
          <p:nvPr/>
        </p:nvGrpSpPr>
        <p:grpSpPr>
          <a:xfrm>
            <a:off x="1258920" y="2421000"/>
            <a:ext cx="3168720" cy="1511280"/>
            <a:chOff x="1258920" y="2421000"/>
            <a:chExt cx="3168720" cy="1511280"/>
          </a:xfrm>
        </p:grpSpPr>
        <p:sp>
          <p:nvSpPr>
            <p:cNvPr id="239" name="Cloud 9"/>
            <p:cNvSpPr/>
            <p:nvPr/>
          </p:nvSpPr>
          <p:spPr>
            <a:xfrm>
              <a:off x="1258920" y="2421000"/>
              <a:ext cx="3097440" cy="151128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00b0f0">
                <a:alpha val="5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0"/>
            <p:cNvSpPr/>
            <p:nvPr/>
          </p:nvSpPr>
          <p:spPr>
            <a:xfrm>
              <a:off x="1330920" y="2564640"/>
              <a:ext cx="3096720" cy="708480"/>
            </a:xfrm>
            <a:prstGeom prst="cloudCallout">
              <a:avLst>
                <a:gd name="adj1" fmla="val -20837"/>
                <a:gd name="adj2" fmla="val 15081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為甚麼回收量會這麼少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1"/>
          <p:cNvGrpSpPr/>
          <p:nvPr/>
        </p:nvGrpSpPr>
        <p:grpSpPr>
          <a:xfrm>
            <a:off x="1116000" y="4221000"/>
            <a:ext cx="3529080" cy="2160720"/>
            <a:chOff x="1116000" y="4221000"/>
            <a:chExt cx="3529080" cy="2160720"/>
          </a:xfrm>
        </p:grpSpPr>
        <p:sp>
          <p:nvSpPr>
            <p:cNvPr id="242" name="Cloud Callout 8"/>
            <p:cNvSpPr/>
            <p:nvPr/>
          </p:nvSpPr>
          <p:spPr>
            <a:xfrm>
              <a:off x="1116000" y="4221000"/>
              <a:ext cx="3529080" cy="2160720"/>
            </a:xfrm>
            <a:prstGeom prst="cloudCallout">
              <a:avLst>
                <a:gd name="adj1" fmla="val 46175"/>
                <a:gd name="adj2" fmla="val 34041"/>
              </a:avLst>
            </a:prstGeom>
            <a:solidFill>
              <a:srgbClr val="00b0f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1"/>
            <p:cNvSpPr/>
            <p:nvPr/>
          </p:nvSpPr>
          <p:spPr>
            <a:xfrm>
              <a:off x="1547640" y="4652640"/>
              <a:ext cx="259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環保園內的機器有沒有被全面使用？那代表甚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2"/>
          <p:cNvSpPr/>
          <p:nvPr/>
        </p:nvSpPr>
        <p:spPr>
          <a:xfrm>
            <a:off x="7046280" y="62373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環保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404640"/>
            <a:ext cx="409428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社會文化（資料一、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環保風氣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分類意識不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認知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錯誤使用回收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0832-BA0C-4CD2-ACBF-E1F39AB033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0"/>
          <p:cNvGrpSpPr/>
          <p:nvPr/>
        </p:nvGrpSpPr>
        <p:grpSpPr>
          <a:xfrm>
            <a:off x="5003640" y="692280"/>
            <a:ext cx="3600720" cy="2592360"/>
            <a:chOff x="5003640" y="692280"/>
            <a:chExt cx="3600720" cy="2592360"/>
          </a:xfrm>
        </p:grpSpPr>
        <p:sp>
          <p:nvSpPr>
            <p:cNvPr id="249" name="Cloud Callout 7"/>
            <p:cNvSpPr/>
            <p:nvPr/>
          </p:nvSpPr>
          <p:spPr>
            <a:xfrm>
              <a:off x="5003640" y="692280"/>
              <a:ext cx="3600720" cy="2592360"/>
            </a:xfrm>
            <a:prstGeom prst="cloudCallout">
              <a:avLst>
                <a:gd name="adj1" fmla="val 34777"/>
                <a:gd name="adj2" fmla="val 47712"/>
              </a:avLst>
            </a:prstGeom>
            <a:solidFill>
              <a:srgbClr val="db23db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10"/>
            <p:cNvSpPr/>
            <p:nvPr/>
          </p:nvSpPr>
          <p:spPr>
            <a:xfrm>
              <a:off x="5506920" y="1393200"/>
              <a:ext cx="23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市民的甚麼行為展示了香港的環保風氣甚弱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1"/>
          <p:cNvSpPr/>
          <p:nvPr/>
        </p:nvSpPr>
        <p:spPr>
          <a:xfrm>
            <a:off x="3840480" y="609300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恵保火塑膠產品有限公司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http://img.diytrade.com/cdimg/843308/23776554/0/1320129731.jpg"/>
          <p:cNvPicPr/>
          <p:nvPr/>
        </p:nvPicPr>
        <p:blipFill>
          <a:blip r:embed="rId1"/>
          <a:stretch/>
        </p:blipFill>
        <p:spPr>
          <a:xfrm>
            <a:off x="826920" y="3691080"/>
            <a:ext cx="5268960" cy="240192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9"/>
          <p:cNvGrpSpPr/>
          <p:nvPr/>
        </p:nvGrpSpPr>
        <p:grpSpPr>
          <a:xfrm>
            <a:off x="6005880" y="3572280"/>
            <a:ext cx="3138120" cy="2301120"/>
            <a:chOff x="6005880" y="3572280"/>
            <a:chExt cx="3138120" cy="2301120"/>
          </a:xfrm>
        </p:grpSpPr>
        <p:sp>
          <p:nvSpPr>
            <p:cNvPr id="254" name="Cloud Callout 8"/>
            <p:cNvSpPr/>
            <p:nvPr/>
          </p:nvSpPr>
          <p:spPr>
            <a:xfrm rot="21255600">
              <a:off x="6099120" y="3714840"/>
              <a:ext cx="2951280" cy="20160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db23db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9"/>
            <p:cNvSpPr/>
            <p:nvPr/>
          </p:nvSpPr>
          <p:spPr>
            <a:xfrm>
              <a:off x="6543360" y="4282560"/>
              <a:ext cx="221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對塑膠回收量有甚麼影響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進階思考</a:t>
            </a:r>
            <a:r>
              <a:rPr b="1" lang="en-US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…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人說：「自</a:t>
            </a:r>
            <a:r>
              <a:rPr b="0" lang="en-US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05</a:t>
            </a: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起，塑膠回收量不量上升，證明香港市民的環保意識有顯著的進步。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有</a:t>
            </a:r>
            <a:r>
              <a:rPr b="1" i="1" lang="zh-TW" sz="3600" spc="-1" strike="noStrike">
                <a:solidFill>
                  <a:srgbClr val="ff0000"/>
                </a:solidFill>
                <a:latin typeface="新細明體"/>
                <a:ea typeface="新細明體"/>
              </a:rPr>
              <a:t>多大程度</a:t>
            </a: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認同他的論點？為甚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28BF-044E-438A-B93A-064EEEC183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042920" y="549360"/>
          <a:ext cx="7850160" cy="5616360"/>
        </p:xfrm>
        <a:graphic>
          <a:graphicData uri="http://schemas.openxmlformats.org/drawingml/2006/table">
            <a:tbl>
              <a:tblPr/>
              <a:tblGrid>
                <a:gridCol w="3816360"/>
                <a:gridCol w="4033800"/>
              </a:tblGrid>
              <a:tr h="11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同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不同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68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社區回收計劃成績理想（資料一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政府與學校合辦不少回收及教育活動（資料一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膠袋徴費計劃成效顯著（資料三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塑膠廢物量仍不斷上升（圖表一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很多市民仍以為只有膠樽可回收（資料一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塑膠廢物回收率仍有待改善（資料二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替代膠袋的物品使用量大增（資料三）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Slide Number Placeholder 3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091E-AB80-4EFB-83EF-934ED081AA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進階思考</a:t>
            </a:r>
            <a:r>
              <a:rPr b="1" lang="en-US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…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1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綜合以上討論，試評論香港市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的生活習慣，並探討這些習慣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塑膠廢物問題的關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3520-1F30-488B-BD54-99BE502B88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71280" y="476280"/>
            <a:ext cx="3925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即棄的習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大量使用膠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資料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使用即用即棄餐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rcRect l="0" t="2623" r="0" b="0"/>
          <a:stretch/>
        </p:blipFill>
        <p:spPr>
          <a:xfrm>
            <a:off x="5003640" y="558720"/>
            <a:ext cx="3652920" cy="531828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6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D815-C2A5-41B7-BF41-FC4ECC752A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6948360" y="5877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水墨畫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Horizontal Scroll 8"/>
          <p:cNvSpPr/>
          <p:nvPr/>
        </p:nvSpPr>
        <p:spPr>
          <a:xfrm>
            <a:off x="1116000" y="3573360"/>
            <a:ext cx="3600360" cy="2590920"/>
          </a:xfrm>
          <a:prstGeom prst="horizontalScroll">
            <a:avLst>
              <a:gd name="adj" fmla="val 12500"/>
            </a:avLst>
          </a:prstGeom>
          <a:solidFill>
            <a:srgbClr val="c9838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1620720" y="4149720"/>
            <a:ext cx="2951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能舉出更多香港市民的即棄習慣嗎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74888"/>
                </a:solidFill>
                <a:latin typeface="新細明體"/>
                <a:ea typeface="新細明體"/>
              </a:rPr>
              <a:t>你知道</a:t>
            </a:r>
            <a:r>
              <a:rPr b="1" lang="en-US" sz="4400" spc="-1" strike="noStrike">
                <a:solidFill>
                  <a:srgbClr val="074888"/>
                </a:solidFill>
                <a:latin typeface="新細明體"/>
                <a:ea typeface="新細明體"/>
              </a:rPr>
              <a:t>…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9720" y="1268280"/>
            <a:ext cx="7983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塑膠廢物佔香港整體都市固體廢物多少個百分比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塑膠廢物回收的趨勢是怎樣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怎樣解釋香港塑膠廢物回收的趨勢嗎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人的生活文化與塑膠廢物的製造有甚麼關係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663B-2CAC-4FE8-9A43-0016671317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26920" y="620280"/>
            <a:ext cx="4392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方便為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未飲完的塑膠容器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入回收箱（資料一）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未有清理塑膠廢物便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之投入回收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75640" y="60213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香港減廢網站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890D-9906-448E-B291-4F2CBAC780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Horizontal Scroll 8"/>
          <p:cNvSpPr/>
          <p:nvPr/>
        </p:nvSpPr>
        <p:spPr>
          <a:xfrm>
            <a:off x="1042920" y="3789360"/>
            <a:ext cx="3673440" cy="2448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1547640" y="4348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知道我們的「方便」如何使他人「麻煩」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3"/>
          <p:cNvGrpSpPr/>
          <p:nvPr/>
        </p:nvGrpSpPr>
        <p:grpSpPr>
          <a:xfrm>
            <a:off x="4932360" y="3789360"/>
            <a:ext cx="2087640" cy="2232000"/>
            <a:chOff x="4932360" y="3789360"/>
            <a:chExt cx="2087640" cy="2232000"/>
          </a:xfrm>
        </p:grpSpPr>
        <p:pic>
          <p:nvPicPr>
            <p:cNvPr id="281" name="Picture 8" descr=""/>
            <p:cNvPicPr/>
            <p:nvPr/>
          </p:nvPicPr>
          <p:blipFill>
            <a:blip r:embed="rId1"/>
            <a:stretch/>
          </p:blipFill>
          <p:spPr>
            <a:xfrm>
              <a:off x="5032440" y="4277520"/>
              <a:ext cx="1987560" cy="174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9" descr=""/>
            <p:cNvPicPr/>
            <p:nvPr/>
          </p:nvPicPr>
          <p:blipFill>
            <a:blip r:embed="rId2"/>
            <a:srcRect l="7126" t="-14837" r="9778" b="-4146"/>
            <a:stretch/>
          </p:blipFill>
          <p:spPr>
            <a:xfrm>
              <a:off x="4932360" y="3789360"/>
              <a:ext cx="2087640" cy="64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Group 14" descr=""/>
          <p:cNvPicPr/>
          <p:nvPr/>
        </p:nvPicPr>
        <p:blipFill>
          <a:blip r:embed="rId3"/>
          <a:stretch/>
        </p:blipFill>
        <p:spPr>
          <a:xfrm>
            <a:off x="5084640" y="944640"/>
            <a:ext cx="3864240" cy="51321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3888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消費型的生活形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過度消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購買非必要的用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如：常更換手機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     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電子產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95800" cy="4192560"/>
          </a:xfrm>
          <a:prstGeom prst="rect">
            <a:avLst/>
          </a:prstGeom>
          <a:ln w="0">
            <a:noFill/>
          </a:ln>
        </p:spPr>
      </p:pic>
      <p:sp>
        <p:nvSpPr>
          <p:cNvPr id="287" name="Slide Number Placeholder 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450E-97FF-4DC4-A4DC-2E11494EAE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7554960" y="57974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太陽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orizontal Scroll 9"/>
          <p:cNvSpPr/>
          <p:nvPr/>
        </p:nvSpPr>
        <p:spPr>
          <a:xfrm>
            <a:off x="1042920" y="3716280"/>
            <a:ext cx="3384720" cy="2376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1403280" y="4184640"/>
            <a:ext cx="316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以上生活形態和塑膠廢物的關係是甚麼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進階思考</a:t>
            </a:r>
            <a:r>
              <a:rPr b="1" lang="en-US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…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綜合以上討論，你能點出現時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i="1" lang="zh-TW" sz="4000" spc="-1" strike="noStrike">
                <a:solidFill>
                  <a:srgbClr val="00cc99"/>
                </a:solidFill>
                <a:latin typeface="新細明體"/>
                <a:ea typeface="新細明體"/>
              </a:rPr>
              <a:t>政府政策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、</a:t>
            </a:r>
            <a:r>
              <a:rPr b="1" i="1" lang="zh-TW" sz="4000" spc="-1" strike="noStrike">
                <a:solidFill>
                  <a:srgbClr val="00cc99"/>
                </a:solidFill>
                <a:latin typeface="新細明體"/>
                <a:ea typeface="新細明體"/>
              </a:rPr>
              <a:t>教育推廣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及</a:t>
            </a:r>
            <a:r>
              <a:rPr b="1" i="1" lang="zh-TW" sz="4000" spc="-1" strike="noStrike">
                <a:solidFill>
                  <a:srgbClr val="00cc99"/>
                </a:solidFill>
                <a:latin typeface="新細明體"/>
                <a:ea typeface="新細明體"/>
              </a:rPr>
              <a:t>經濟考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三方面，有些甚麼不利因素以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未能減低塑膠廢物的製造量，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及提升其回收量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1033-D698-4993-8550-8233C677E9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55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推行政策力度不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地區推廣不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設施不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發展回收工業資源不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18EC-5E3A-411D-A43A-22FE49878A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反思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若香港回收塑膠廢物的情況沒有改善，對社會環境會有甚麼影響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認為自己有否奉行「</a:t>
            </a:r>
            <a:r>
              <a:rPr b="1" i="1" lang="zh-TW" sz="3200" spc="-1" strike="noStrike">
                <a:solidFill>
                  <a:srgbClr val="ff0000"/>
                </a:solidFill>
                <a:latin typeface="新細明體"/>
                <a:ea typeface="新細明體"/>
              </a:rPr>
              <a:t>方便為本、即用即棄、消費型的生活習慣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」這些生活方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442F-6F0D-4983-816F-3DB9A7EB04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1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83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新細明體"/>
                <a:ea typeface="新細明體"/>
              </a:rPr>
              <a:t>1. </a:t>
            </a:r>
            <a:r>
              <a:rPr b="0" lang="zh-TW" sz="3100" spc="-1" strike="noStrike">
                <a:solidFill>
                  <a:srgbClr val="000000"/>
                </a:solidFill>
                <a:latin typeface="新細明體"/>
                <a:ea typeface="新細明體"/>
              </a:rPr>
              <a:t>塑膠廢物佔香港都市固體廢物的百分比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新細明體"/>
                <a:ea typeface="新細明體"/>
              </a:rPr>
              <a:t>2. </a:t>
            </a:r>
            <a:r>
              <a:rPr b="0" lang="zh-TW" sz="31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塑膠廢物的回收趨勢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新細明體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新細明體"/>
                <a:ea typeface="新細明體"/>
              </a:rPr>
              <a:t>3. </a:t>
            </a:r>
            <a:r>
              <a:rPr b="0" lang="zh-TW" sz="3100" spc="-1" strike="noStrike">
                <a:solidFill>
                  <a:srgbClr val="000000"/>
                </a:solidFill>
                <a:latin typeface="新細明體"/>
                <a:ea typeface="新細明體"/>
              </a:rPr>
              <a:t>從不同方面解釋香港塑膠廢物回收的趨勢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新細明體"/>
                <a:ea typeface="新細明體"/>
              </a:rPr>
              <a:t>4. </a:t>
            </a:r>
            <a:r>
              <a:rPr b="0" lang="zh-TW" sz="31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人的生活文化與塑膠廢物製造的關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74888"/>
                </a:solidFill>
                <a:latin typeface="新細明體"/>
                <a:ea typeface="新細明體"/>
              </a:rPr>
              <a:t>課節完結前，你能夠回答以下問題嗎？</a:t>
            </a:r>
            <a:endParaRPr b="1" lang="en-US" sz="36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BEEF-6E75-4BFB-A0C3-66F358246B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8028000" y="1052640"/>
            <a:ext cx="1008000" cy="550800"/>
          </a:xfrm>
          <a:prstGeom prst="rect">
            <a:avLst/>
          </a:prstGeom>
          <a:solidFill>
            <a:srgbClr val="2d2db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新細明體"/>
                <a:ea typeface="新細明體"/>
              </a:rPr>
              <a:t>兩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1258920" y="2197080"/>
            <a:ext cx="5041800" cy="1007640"/>
          </a:xfrm>
          <a:prstGeom prst="rect">
            <a:avLst/>
          </a:prstGeom>
          <a:solidFill>
            <a:srgbClr val="2d2db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新細明體"/>
                <a:ea typeface="新細明體"/>
              </a:rPr>
              <a:t>回收量近十年雖有上升趨勢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新細明體"/>
                <a:ea typeface="新細明體"/>
              </a:rPr>
              <a:t>但廢物量仍居高不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8"/>
          <p:cNvSpPr/>
          <p:nvPr/>
        </p:nvSpPr>
        <p:spPr>
          <a:xfrm>
            <a:off x="1187280" y="3852720"/>
            <a:ext cx="7705800" cy="550800"/>
          </a:xfrm>
          <a:prstGeom prst="rect">
            <a:avLst/>
          </a:prstGeom>
          <a:solidFill>
            <a:srgbClr val="2d2db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新細明體"/>
                <a:ea typeface="新細明體"/>
              </a:rPr>
              <a:t>個人習慣、政府政策、教育推廣、經濟考慮、社會文化都會影響塑膠回收的果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1187280" y="5589720"/>
            <a:ext cx="7056720" cy="550800"/>
          </a:xfrm>
          <a:prstGeom prst="rect">
            <a:avLst/>
          </a:prstGeom>
          <a:solidFill>
            <a:srgbClr val="2d2db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新細明體"/>
                <a:ea typeface="新細明體"/>
              </a:rPr>
              <a:t>方便為本、即用即棄、消費型的生活習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Callout 10"/>
          <p:cNvSpPr/>
          <p:nvPr/>
        </p:nvSpPr>
        <p:spPr>
          <a:xfrm>
            <a:off x="1403280" y="2060640"/>
            <a:ext cx="7020000" cy="33130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最重要是要改善日常的生活態度，摒棄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500" spc="-1" strike="noStrike">
                <a:solidFill>
                  <a:srgbClr val="ff0000"/>
                </a:solidFill>
                <a:latin typeface="新細明體"/>
                <a:ea typeface="新細明體"/>
              </a:rPr>
              <a:t>方便主義、即棄文化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500" spc="-1" strike="noStrike">
                <a:solidFill>
                  <a:srgbClr val="ff0000"/>
                </a:solidFill>
                <a:latin typeface="新細明體"/>
                <a:ea typeface="新細明體"/>
              </a:rPr>
              <a:t>消費型的生活習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圖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Cloud Callout 5"/>
          <p:cNvSpPr/>
          <p:nvPr/>
        </p:nvSpPr>
        <p:spPr>
          <a:xfrm>
            <a:off x="539640" y="260280"/>
            <a:ext cx="4321440" cy="1944720"/>
          </a:xfrm>
          <a:prstGeom prst="cloudCallout">
            <a:avLst>
              <a:gd name="adj1" fmla="val 25500"/>
              <a:gd name="adj2" fmla="val 56824"/>
            </a:avLst>
          </a:prstGeom>
          <a:solidFill>
            <a:srgbClr val="37e966">
              <a:alpha val="71000"/>
            </a:srgbClr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Cloud Callout 6"/>
          <p:cNvGrpSpPr/>
          <p:nvPr/>
        </p:nvGrpSpPr>
        <p:grpSpPr>
          <a:xfrm>
            <a:off x="4352760" y="1163520"/>
            <a:ext cx="4426200" cy="2554560"/>
            <a:chOff x="4352760" y="1163520"/>
            <a:chExt cx="4426200" cy="2554560"/>
          </a:xfrm>
        </p:grpSpPr>
        <p:pic>
          <p:nvPicPr>
            <p:cNvPr id="117" name="Cloud Callout 6" descr=""/>
            <p:cNvPicPr/>
            <p:nvPr/>
          </p:nvPicPr>
          <p:blipFill>
            <a:blip r:embed="rId3"/>
            <a:stretch/>
          </p:blipFill>
          <p:spPr>
            <a:xfrm>
              <a:off x="4352760" y="1163520"/>
              <a:ext cx="4426200" cy="25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022720" y="1522440"/>
              <a:ext cx="282276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Cloud Callout 7"/>
          <p:cNvSpPr/>
          <p:nvPr/>
        </p:nvSpPr>
        <p:spPr>
          <a:xfrm>
            <a:off x="250920" y="2781360"/>
            <a:ext cx="4033800" cy="2232000"/>
          </a:xfrm>
          <a:prstGeom prst="cloudCallout">
            <a:avLst>
              <a:gd name="adj1" fmla="val 20999"/>
              <a:gd name="adj2" fmla="val 57972"/>
            </a:avLst>
          </a:prstGeom>
          <a:solidFill>
            <a:srgbClr val="ffc000">
              <a:alpha val="88000"/>
            </a:srgbClr>
          </a:solidFill>
          <a:ln w="28440">
            <a:solidFill>
              <a:srgbClr val="c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 Callout 8"/>
          <p:cNvSpPr/>
          <p:nvPr/>
        </p:nvSpPr>
        <p:spPr>
          <a:xfrm>
            <a:off x="4427640" y="3860640"/>
            <a:ext cx="4319640" cy="2448000"/>
          </a:xfrm>
          <a:prstGeom prst="cloudCallout">
            <a:avLst>
              <a:gd name="adj1" fmla="val -43462"/>
              <a:gd name="adj2" fmla="val -57564"/>
            </a:avLst>
          </a:prstGeom>
          <a:solidFill>
            <a:srgbClr val="85ffe0">
              <a:alpha val="79000"/>
            </a:srgbClr>
          </a:solidFill>
          <a:ln w="38160">
            <a:solidFill>
              <a:srgbClr val="0070c0"/>
            </a:solidFill>
            <a:prstDash val="lgDashDotDot"/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258920" y="69228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4d"/>
                </a:solidFill>
                <a:latin typeface="新細明體"/>
                <a:ea typeface="新細明體"/>
              </a:rPr>
              <a:t>香港每年的廢物量有甚麼變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5148360" y="161280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主要的都市固體廢物可分為哪些類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148360" y="436572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6165d"/>
                </a:solidFill>
                <a:latin typeface="新細明體"/>
                <a:ea typeface="新細明體"/>
              </a:rPr>
              <a:t>市民的生活習慣對塑膠廢物量有甚麼影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826920" y="3411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33"/>
                </a:solidFill>
                <a:latin typeface="新細明體"/>
                <a:ea typeface="新細明體"/>
              </a:rPr>
              <a:t>香港用甚麼方法處理塑膠廢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6300720" y="648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環保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AFE2-A826-4D00-B0DC-AE771373CD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560" y="620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產生的都市固體廢物有哪些主要類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i="1" lang="zh-TW" sz="2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i="1" lang="zh-CN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金屬、玻璃、塑</a:t>
            </a:r>
            <a:r>
              <a:rPr b="1" i="1" lang="zh-TW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料</a:t>
            </a:r>
            <a:r>
              <a:rPr b="1" i="1" lang="zh-CN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、紙</a:t>
            </a:r>
            <a:r>
              <a:rPr b="1" i="1" lang="zh-TW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料</a:t>
            </a:r>
            <a:r>
              <a:rPr b="1" i="1" lang="zh-CN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、易腐爛的廢物（</a:t>
            </a:r>
            <a:r>
              <a:rPr b="1" i="1" lang="zh-TW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如：食物渣滓、園林廢物</a:t>
            </a:r>
            <a:r>
              <a:rPr b="1" i="1" lang="zh-CN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）、木材</a:t>
            </a:r>
            <a:r>
              <a:rPr b="1" i="1" lang="zh-TW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、紡織品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當中不同類型所佔的比重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試就</a:t>
            </a:r>
            <a:r>
              <a:rPr b="0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10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圓瓣圖的比重，作出推測，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答案填入圖中空格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4D4C-963B-4A32-AD81-F4EED6A9C5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74888"/>
                </a:solidFill>
                <a:latin typeface="新細明體"/>
                <a:ea typeface="新細明體"/>
              </a:rPr>
              <a:t>試猜猜</a:t>
            </a:r>
            <a:r>
              <a:rPr b="1" lang="en-US" sz="4400" spc="-1" strike="noStrike">
                <a:solidFill>
                  <a:srgbClr val="074888"/>
                </a:solidFill>
                <a:latin typeface="新細明體"/>
                <a:ea typeface="新細明體"/>
              </a:rPr>
              <a:t>…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403280" y="5589720"/>
            <a:ext cx="2232000" cy="5205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完成圖表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哪些廢物類別佔香港都市固體廢物比率最高？</a:t>
            </a:r>
            <a:endParaRPr b="1" lang="en-US" sz="32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8D82-DCC5-48B7-A225-485E0CE46E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936720" y="1816200"/>
            <a:ext cx="8028000" cy="3384360"/>
            <a:chOff x="936720" y="1816200"/>
            <a:chExt cx="8028000" cy="3384360"/>
          </a:xfrm>
        </p:grpSpPr>
        <p:pic>
          <p:nvPicPr>
            <p:cNvPr id="136" name="Picture 12" descr="2009及2010年都市固體廢物的成分 - 主要成分分類 - empty space"/>
            <p:cNvPicPr/>
            <p:nvPr/>
          </p:nvPicPr>
          <p:blipFill>
            <a:blip r:embed="rId1"/>
            <a:srcRect l="0" t="0" r="0" b="79914"/>
            <a:stretch/>
          </p:blipFill>
          <p:spPr>
            <a:xfrm>
              <a:off x="936720" y="1816200"/>
              <a:ext cx="8028000" cy="3384360"/>
            </a:xfrm>
            <a:prstGeom prst="rect">
              <a:avLst/>
            </a:prstGeom>
            <a:ln w="19080">
              <a:solidFill>
                <a:srgbClr val="00b050"/>
              </a:solidFill>
              <a:miter/>
            </a:ln>
          </p:spPr>
        </p:pic>
        <p:sp>
          <p:nvSpPr>
            <p:cNvPr id="137" name="Text Box 11"/>
            <p:cNvSpPr/>
            <p:nvPr/>
          </p:nvSpPr>
          <p:spPr>
            <a:xfrm>
              <a:off x="1239840" y="2327400"/>
              <a:ext cx="408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0"/>
            <p:cNvSpPr/>
            <p:nvPr/>
          </p:nvSpPr>
          <p:spPr>
            <a:xfrm>
              <a:off x="2175840" y="1972440"/>
              <a:ext cx="40860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"/>
            <p:cNvSpPr/>
            <p:nvPr/>
          </p:nvSpPr>
          <p:spPr>
            <a:xfrm>
              <a:off x="3936600" y="2143800"/>
              <a:ext cx="408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Text Box 8"/>
            <p:cNvGrpSpPr/>
            <p:nvPr/>
          </p:nvGrpSpPr>
          <p:grpSpPr>
            <a:xfrm>
              <a:off x="4870800" y="2298600"/>
              <a:ext cx="944640" cy="329040"/>
              <a:chOff x="4870800" y="2298600"/>
              <a:chExt cx="944640" cy="329040"/>
            </a:xfrm>
          </p:grpSpPr>
          <p:pic>
            <p:nvPicPr>
              <p:cNvPr id="141" name="Text Box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0800" y="2298600"/>
                <a:ext cx="94464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4897440" y="2320560"/>
                <a:ext cx="8992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A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Text Box 7"/>
            <p:cNvGrpSpPr/>
            <p:nvPr/>
          </p:nvGrpSpPr>
          <p:grpSpPr>
            <a:xfrm>
              <a:off x="6132240" y="1938600"/>
              <a:ext cx="944640" cy="329040"/>
              <a:chOff x="6132240" y="1938600"/>
              <a:chExt cx="944640" cy="329040"/>
            </a:xfrm>
          </p:grpSpPr>
          <p:pic>
            <p:nvPicPr>
              <p:cNvPr id="144" name="Text 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6132240" y="1938600"/>
                <a:ext cx="94464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6156000" y="1960200"/>
                <a:ext cx="9000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B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Text Box 6"/>
            <p:cNvGrpSpPr/>
            <p:nvPr/>
          </p:nvGrpSpPr>
          <p:grpSpPr>
            <a:xfrm>
              <a:off x="7680600" y="2079360"/>
              <a:ext cx="944640" cy="335160"/>
              <a:chOff x="7680600" y="2079360"/>
              <a:chExt cx="944640" cy="335160"/>
            </a:xfrm>
          </p:grpSpPr>
          <p:pic>
            <p:nvPicPr>
              <p:cNvPr id="147" name="Text Box 6" descr=""/>
              <p:cNvPicPr/>
              <p:nvPr/>
            </p:nvPicPr>
            <p:blipFill>
              <a:blip r:embed="rId4"/>
              <a:stretch/>
            </p:blipFill>
            <p:spPr>
              <a:xfrm>
                <a:off x="7680600" y="2079360"/>
                <a:ext cx="9446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7704360" y="2104920"/>
                <a:ext cx="9000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C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Rectangle 12"/>
          <p:cNvSpPr/>
          <p:nvPr/>
        </p:nvSpPr>
        <p:spPr>
          <a:xfrm>
            <a:off x="1215000" y="927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圖表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2659320" y="1314000"/>
            <a:ext cx="467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09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及</a:t>
            </a:r>
            <a:r>
              <a:rPr b="1" lang="en-US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10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都市固體廢物的成分－主要成分分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836640" y="5275800"/>
            <a:ext cx="819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註 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(1)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：「其他」包括紡織物、木材／藤料、家居有害廢物及其他未分類的廢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資料來源：環保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00000" y="189000"/>
            <a:ext cx="1452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正確答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90DF-454B-4C0E-AF3F-65406C7A34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936720" y="1628640"/>
            <a:ext cx="8028000" cy="3384720"/>
            <a:chOff x="936720" y="1628640"/>
            <a:chExt cx="8028000" cy="3384720"/>
          </a:xfrm>
        </p:grpSpPr>
        <p:pic>
          <p:nvPicPr>
            <p:cNvPr id="157" name="Picture 12" descr="2009及2010年都市固體廢物的成分 - 主要成分分類 - empty space"/>
            <p:cNvPicPr/>
            <p:nvPr/>
          </p:nvPicPr>
          <p:blipFill>
            <a:blip r:embed="rId1"/>
            <a:srcRect l="0" t="0" r="0" b="79914"/>
            <a:stretch/>
          </p:blipFill>
          <p:spPr>
            <a:xfrm>
              <a:off x="936720" y="1628640"/>
              <a:ext cx="8028000" cy="3384720"/>
            </a:xfrm>
            <a:prstGeom prst="rect">
              <a:avLst/>
            </a:prstGeom>
            <a:ln w="19080">
              <a:solidFill>
                <a:srgbClr val="00b050"/>
              </a:solidFill>
              <a:miter/>
            </a:ln>
          </p:spPr>
        </p:pic>
        <p:sp>
          <p:nvSpPr>
            <p:cNvPr id="158" name="Text Box 11"/>
            <p:cNvSpPr/>
            <p:nvPr/>
          </p:nvSpPr>
          <p:spPr>
            <a:xfrm>
              <a:off x="1239840" y="2139840"/>
              <a:ext cx="408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2175840" y="1784880"/>
              <a:ext cx="40860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3936600" y="1956240"/>
              <a:ext cx="408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Text Box 8"/>
            <p:cNvGrpSpPr/>
            <p:nvPr/>
          </p:nvGrpSpPr>
          <p:grpSpPr>
            <a:xfrm>
              <a:off x="4870800" y="2109240"/>
              <a:ext cx="944640" cy="329040"/>
              <a:chOff x="4870800" y="2109240"/>
              <a:chExt cx="944640" cy="329040"/>
            </a:xfrm>
          </p:grpSpPr>
          <p:pic>
            <p:nvPicPr>
              <p:cNvPr id="162" name="Text Box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0800" y="2109240"/>
                <a:ext cx="94464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4897440" y="2133000"/>
                <a:ext cx="8992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A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r>
                  <a:rPr b="1" lang="zh-TW" sz="1400" spc="-1" strike="noStrike">
                    <a:solidFill>
                      <a:srgbClr val="ff0000"/>
                    </a:solidFill>
                    <a:latin typeface="新細明體"/>
                    <a:ea typeface="新細明體"/>
                  </a:rPr>
                  <a:t>玻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Text Box 7"/>
            <p:cNvGrpSpPr/>
            <p:nvPr/>
          </p:nvGrpSpPr>
          <p:grpSpPr>
            <a:xfrm>
              <a:off x="6059160" y="1749240"/>
              <a:ext cx="908280" cy="329040"/>
              <a:chOff x="6059160" y="1749240"/>
              <a:chExt cx="908280" cy="329040"/>
            </a:xfrm>
          </p:grpSpPr>
          <p:pic>
            <p:nvPicPr>
              <p:cNvPr id="165" name="Text 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6059160" y="1749240"/>
                <a:ext cx="90828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6083640" y="1772640"/>
                <a:ext cx="8643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B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r>
                  <a:rPr b="1" lang="zh-TW" sz="1400" spc="-1" strike="noStrike">
                    <a:solidFill>
                      <a:srgbClr val="ff0000"/>
                    </a:solidFill>
                    <a:latin typeface="Times New Roman"/>
                    <a:ea typeface="新細明體"/>
                  </a:rPr>
                  <a:t>塑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Text Box 6"/>
            <p:cNvGrpSpPr/>
            <p:nvPr/>
          </p:nvGrpSpPr>
          <p:grpSpPr>
            <a:xfrm>
              <a:off x="7284960" y="1890000"/>
              <a:ext cx="1627920" cy="335520"/>
              <a:chOff x="7284960" y="1890000"/>
              <a:chExt cx="1627920" cy="335520"/>
            </a:xfrm>
          </p:grpSpPr>
          <p:pic>
            <p:nvPicPr>
              <p:cNvPr id="168" name="Text Box 6" descr=""/>
              <p:cNvPicPr/>
              <p:nvPr/>
            </p:nvPicPr>
            <p:blipFill>
              <a:blip r:embed="rId4"/>
              <a:stretch/>
            </p:blipFill>
            <p:spPr>
              <a:xfrm>
                <a:off x="7284960" y="1890000"/>
                <a:ext cx="1627920" cy="33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7308360" y="1917360"/>
                <a:ext cx="158436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C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r>
                  <a:rPr b="1" lang="zh-TW" sz="1400" spc="-1" strike="noStrike">
                    <a:solidFill>
                      <a:srgbClr val="ff0000"/>
                    </a:solidFill>
                    <a:latin typeface="Times New Roman"/>
                    <a:ea typeface="新細明體"/>
                  </a:rPr>
                  <a:t>易腐爛的廢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Rectangle 13"/>
          <p:cNvSpPr/>
          <p:nvPr/>
        </p:nvSpPr>
        <p:spPr>
          <a:xfrm>
            <a:off x="1287360" y="7401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圖表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Rectangle 14" descr=""/>
          <p:cNvPicPr/>
          <p:nvPr/>
        </p:nvPicPr>
        <p:blipFill>
          <a:blip r:embed="rId5"/>
          <a:stretch/>
        </p:blipFill>
        <p:spPr>
          <a:xfrm>
            <a:off x="1736640" y="1085760"/>
            <a:ext cx="6469200" cy="4748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5"/>
          <p:cNvSpPr/>
          <p:nvPr/>
        </p:nvSpPr>
        <p:spPr>
          <a:xfrm>
            <a:off x="836640" y="5088600"/>
            <a:ext cx="819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註 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(1)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：「其他」包括紡織物、木材／藤料、家居有害廢物及其他未分類的廢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資料來源：環保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loud Callout 16"/>
          <p:cNvSpPr/>
          <p:nvPr/>
        </p:nvSpPr>
        <p:spPr>
          <a:xfrm>
            <a:off x="684360" y="3068640"/>
            <a:ext cx="8459640" cy="3600360"/>
          </a:xfrm>
          <a:prstGeom prst="cloudCallout">
            <a:avLst>
              <a:gd name="adj1" fmla="val -23106"/>
              <a:gd name="adj2" fmla="val 53587"/>
            </a:avLst>
          </a:prstGeom>
          <a:solidFill>
            <a:srgbClr val="00cc99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的塑膠廢物分別佔都市固體廢物的比重是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其比重在這一年之間有何變化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對這變化有何看法？是否嚴重？是否令人擔憂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香港塑膠廢物的回收趨勢</a:t>
            </a:r>
            <a:endParaRPr b="1" lang="en-US" sz="36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75" name="Slide Number Placeholder 8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3C12-B365-43D6-B4FE-F2BAE3202B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553080" cy="46785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1037520" y="927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圖表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072240" y="11278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1991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至</a:t>
            </a: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的都市固體廢物統計數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659640" y="617112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 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資料來源：環保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橢圓形圖說文字 7"/>
          <p:cNvSpPr/>
          <p:nvPr/>
        </p:nvSpPr>
        <p:spPr>
          <a:xfrm>
            <a:off x="6300720" y="71280"/>
            <a:ext cx="2735280" cy="1989360"/>
          </a:xfrm>
          <a:prstGeom prst="wedgeEllipseCallout">
            <a:avLst>
              <a:gd name="adj1" fmla="val -42152"/>
              <a:gd name="adj2" fmla="val 52194"/>
            </a:avLst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4d"/>
                </a:solidFill>
                <a:latin typeface="新細明體"/>
                <a:ea typeface="新細明體"/>
              </a:rPr>
              <a:t>都市固體廢物回收的整體情況是怎樣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4d"/>
                </a:solidFill>
                <a:latin typeface="新細明體"/>
                <a:ea typeface="新細明體"/>
              </a:rPr>
              <a:t>有甚麼變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78228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83DA-DF19-41E5-AA5F-4768B62889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037520" y="927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圖表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160080" y="1528200"/>
            <a:ext cx="39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1991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至</a:t>
            </a: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12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回收的塑膠廢物數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357" t="19565" r="1357" b="3913"/>
          <a:stretch/>
        </p:blipFill>
        <p:spPr>
          <a:xfrm>
            <a:off x="1042920" y="1989000"/>
            <a:ext cx="7567560" cy="3456000"/>
          </a:xfrm>
          <a:prstGeom prst="rect">
            <a:avLst/>
          </a:prstGeom>
          <a:ln w="0">
            <a:noFill/>
          </a:ln>
        </p:spPr>
      </p:pic>
      <p:sp>
        <p:nvSpPr>
          <p:cNvPr id="187" name="橢圓形圖說文字 5"/>
          <p:cNvSpPr/>
          <p:nvPr/>
        </p:nvSpPr>
        <p:spPr>
          <a:xfrm>
            <a:off x="5364000" y="115920"/>
            <a:ext cx="3529080" cy="1297080"/>
          </a:xfrm>
          <a:prstGeom prst="wedgeEllipseCallout">
            <a:avLst>
              <a:gd name="adj1" fmla="val -20833"/>
              <a:gd name="adj2" fmla="val 5734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評論塑膠</a:t>
            </a:r>
            <a:r>
              <a:rPr b="1" lang="zh-TW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廢物</a:t>
            </a:r>
            <a:r>
              <a:rPr b="1" lang="zh-CN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回收的趨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群組 11"/>
          <p:cNvGrpSpPr/>
          <p:nvPr/>
        </p:nvGrpSpPr>
        <p:grpSpPr>
          <a:xfrm>
            <a:off x="3497400" y="3446280"/>
            <a:ext cx="5661720" cy="3430080"/>
            <a:chOff x="3497400" y="3446280"/>
            <a:chExt cx="5661720" cy="3430080"/>
          </a:xfrm>
        </p:grpSpPr>
        <p:grpSp>
          <p:nvGrpSpPr>
            <p:cNvPr id="189" name="Explosion 1 6"/>
            <p:cNvGrpSpPr/>
            <p:nvPr/>
          </p:nvGrpSpPr>
          <p:grpSpPr>
            <a:xfrm>
              <a:off x="3497400" y="3446280"/>
              <a:ext cx="5661720" cy="3430080"/>
              <a:chOff x="3497400" y="3446280"/>
              <a:chExt cx="5661720" cy="3430080"/>
            </a:xfrm>
          </p:grpSpPr>
          <p:pic>
            <p:nvPicPr>
              <p:cNvPr id="190" name="Explosion 1 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3497400" y="3446640"/>
                <a:ext cx="5661000" cy="34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577200">
                <a:off x="4825080" y="4569480"/>
                <a:ext cx="3110040" cy="11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Box 8"/>
            <p:cNvSpPr/>
            <p:nvPr/>
          </p:nvSpPr>
          <p:spPr>
            <a:xfrm rot="577800">
              <a:off x="4957200" y="4659840"/>
              <a:ext cx="3120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新細明體"/>
                  <a:ea typeface="新細明體"/>
                </a:rPr>
                <a:t>塑膠廢物的回收進度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新細明體"/>
                  <a:ea typeface="新細明體"/>
                </a:rPr>
                <a:t>能否趕上廢物產生的速度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群組 8"/>
          <p:cNvGrpSpPr/>
          <p:nvPr/>
        </p:nvGrpSpPr>
        <p:grpSpPr>
          <a:xfrm>
            <a:off x="467280" y="3929040"/>
            <a:ext cx="4248360" cy="2928600"/>
            <a:chOff x="467280" y="3929040"/>
            <a:chExt cx="4248360" cy="2928600"/>
          </a:xfrm>
        </p:grpSpPr>
        <p:sp>
          <p:nvSpPr>
            <p:cNvPr id="194" name="Explosion 1 4"/>
            <p:cNvSpPr/>
            <p:nvPr/>
          </p:nvSpPr>
          <p:spPr>
            <a:xfrm rot="21198600">
              <a:off x="597960" y="4152600"/>
              <a:ext cx="3986280" cy="2481120"/>
            </a:xfrm>
            <a:prstGeom prst="irregularSeal1">
              <a:avLst/>
            </a:prstGeom>
            <a:solidFill>
              <a:srgbClr val="ffff00"/>
            </a:solidFill>
            <a:ln w="381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7"/>
            <p:cNvSpPr/>
            <p:nvPr/>
          </p:nvSpPr>
          <p:spPr>
            <a:xfrm rot="21198600">
              <a:off x="1516680" y="4806360"/>
              <a:ext cx="199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你認為回收情況樂觀嗎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Cloud Callout 12"/>
          <p:cNvSpPr/>
          <p:nvPr/>
        </p:nvSpPr>
        <p:spPr>
          <a:xfrm>
            <a:off x="2195640" y="1989000"/>
            <a:ext cx="5327640" cy="2519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既有回收上升的現象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，為何固體廢物量仍居高不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26560" y="1700280"/>
            <a:ext cx="8001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小組討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參考資料一至三，從</a:t>
            </a:r>
            <a:r>
              <a:rPr b="1" i="1" lang="zh-TW" sz="3200" spc="-1" strike="noStrike">
                <a:solidFill>
                  <a:srgbClr val="00cc99"/>
                </a:solidFill>
                <a:latin typeface="Times New Roman"/>
                <a:ea typeface="新細明體"/>
              </a:rPr>
              <a:t>不同層面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歸納原因，解釋香港塑膠回收的趨勢，並將討論結果記錄於工作紙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0892-CD3A-42B7-A5AF-F21F186431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9:46:34Z</dcterms:created>
  <dc:creator>HKIEd</dc:creator>
  <dc:description/>
  <cp:keywords/>
  <dc:language>en-US</dc:language>
  <cp:lastModifiedBy>HKIEd</cp:lastModifiedBy>
  <cp:lastPrinted>1899-12-30T00:00:00Z</cp:lastPrinted>
  <dcterms:modified xsi:type="dcterms:W3CDTF">2013-02-25T01:34:46Z</dcterms:modified>
  <cp:revision>159</cp:revision>
  <dc:subject/>
  <dc:title>塑膠廢物知多少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6.6.0.2496</vt:lpwstr>
  </property>
</Properties>
</file>